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  <p:custShowLst>
    <p:custShow name="chapter" id="0">
      <p:sldLst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7"/>
        <p:sld r:id="rId30"/>
        <p:sld r:id="rId28"/>
        <p:sld r:id="rId31"/>
      </p:sldLst>
    </p:custShow>
    <p:custShow name="bellringers" id="1">
      <p:sldLst>
        <p:sld r:id="rId7"/>
        <p:sld r:id="rId15"/>
        <p:sld r:id="rId22"/>
      </p:sldLst>
    </p:custShow>
    <p:custShow name="transparencies" id="2">
      <p:sldLst>
        <p:sld r:id="rId12"/>
        <p:sld r:id="rId14"/>
        <p:sld r:id="rId21"/>
        <p:sld r:id="rId30"/>
      </p:sldLst>
    </p:custShow>
    <p:custShow name="ACT sect 1" id="3">
      <p:sldLst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7"/>
        <p:sld r:id="rId30"/>
        <p:sld r:id="rId28"/>
        <p:sld r:id="rId31"/>
      </p:sldLst>
    </p:custShow>
    <p:custShow name="ACT sect 2" id="4">
      <p:sldLst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7"/>
        <p:sld r:id="rId30"/>
        <p:sld r:id="rId28"/>
        <p:sld r:id="rId31"/>
      </p:sldLst>
    </p:custShow>
    <p:custShow name="ACT sect 3" id="5">
      <p:sldLst>
        <p:sld r:id="rId22"/>
        <p:sld r:id="rId23"/>
        <p:sld r:id="rId24"/>
        <p:sld r:id="rId25"/>
        <p:sld r:id="rId27"/>
        <p:sld r:id="rId30"/>
        <p:sld r:id="rId28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5" action="ppaction://hlinksldjump"/>
          </p:cNvPr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981000" y="199872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066680" y="2886120"/>
            <a:ext cx="71265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5"/>
          <p:cNvSpPr/>
          <p:nvPr/>
        </p:nvSpPr>
        <p:spPr>
          <a:xfrm>
            <a:off x="3489480" y="15228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Cell in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066680" y="3200400"/>
            <a:ext cx="3276720" cy="457200"/>
          </a:xfrm>
          <a:custGeom>
            <a:avLst/>
            <a:gdLst>
              <a:gd name="textAreaLeft" fmla="*/ 29520 w 3276720"/>
              <a:gd name="textAreaRight" fmla="*/ 3247200 w 3276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4701" h="21600">
                <a:moveTo>
                  <a:pt x="0" y="0"/>
                </a:moveTo>
                <a:lnTo>
                  <a:pt x="154701" y="0"/>
                </a:lnTo>
                <a:lnTo>
                  <a:pt x="154701" y="21600"/>
                </a:lnTo>
                <a:lnTo>
                  <a:pt x="0" y="21600"/>
                </a:lnTo>
                <a:close/>
              </a:path>
              <a:path fill="lightenLess" w="154701" h="21600">
                <a:moveTo>
                  <a:pt x="0" y="0"/>
                </a:moveTo>
                <a:lnTo>
                  <a:pt x="154701" y="0"/>
                </a:lnTo>
                <a:lnTo>
                  <a:pt x="153301" y="1400"/>
                </a:lnTo>
                <a:lnTo>
                  <a:pt x="1400" y="1400"/>
                </a:lnTo>
                <a:close/>
              </a:path>
              <a:path fill="darken" w="154701" h="21600">
                <a:moveTo>
                  <a:pt x="154701" y="0"/>
                </a:moveTo>
                <a:lnTo>
                  <a:pt x="154701" y="21600"/>
                </a:lnTo>
                <a:lnTo>
                  <a:pt x="153301" y="20200"/>
                </a:lnTo>
                <a:lnTo>
                  <a:pt x="153301" y="1400"/>
                </a:lnTo>
                <a:close/>
              </a:path>
              <a:path fill="darkenLess" w="154701" h="21600">
                <a:moveTo>
                  <a:pt x="154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301" y="20200"/>
                </a:lnTo>
                <a:close/>
              </a:path>
              <a:path fill="lighten" w="154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1066680" y="388620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0"/>
          <p:cNvSpPr/>
          <p:nvPr/>
        </p:nvSpPr>
        <p:spPr>
          <a:xfrm>
            <a:off x="1066680" y="289548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1"/>
          <p:cNvSpPr/>
          <p:nvPr/>
        </p:nvSpPr>
        <p:spPr>
          <a:xfrm>
            <a:off x="1066680" y="3657600"/>
            <a:ext cx="3581640" cy="457200"/>
          </a:xfrm>
          <a:custGeom>
            <a:avLst/>
            <a:gdLst>
              <a:gd name="textAreaLeft" fmla="*/ 29520 w 3581640"/>
              <a:gd name="textAreaRight" fmla="*/ 3552120 w 3581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9095" h="21600">
                <a:moveTo>
                  <a:pt x="0" y="0"/>
                </a:moveTo>
                <a:lnTo>
                  <a:pt x="169095" y="0"/>
                </a:lnTo>
                <a:lnTo>
                  <a:pt x="169095" y="21600"/>
                </a:lnTo>
                <a:lnTo>
                  <a:pt x="0" y="21600"/>
                </a:lnTo>
                <a:close/>
              </a:path>
              <a:path fill="lightenLess" w="169095" h="21600">
                <a:moveTo>
                  <a:pt x="0" y="0"/>
                </a:moveTo>
                <a:lnTo>
                  <a:pt x="169095" y="0"/>
                </a:lnTo>
                <a:lnTo>
                  <a:pt x="167695" y="1400"/>
                </a:lnTo>
                <a:lnTo>
                  <a:pt x="1400" y="1400"/>
                </a:lnTo>
                <a:close/>
              </a:path>
              <a:path fill="darken" w="169095" h="21600">
                <a:moveTo>
                  <a:pt x="169095" y="0"/>
                </a:moveTo>
                <a:lnTo>
                  <a:pt x="169095" y="21600"/>
                </a:lnTo>
                <a:lnTo>
                  <a:pt x="167695" y="20200"/>
                </a:lnTo>
                <a:lnTo>
                  <a:pt x="167695" y="1400"/>
                </a:lnTo>
                <a:close/>
              </a:path>
              <a:path fill="darkenLess" w="169095" h="21600">
                <a:moveTo>
                  <a:pt x="16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695" y="20200"/>
                </a:lnTo>
                <a:close/>
              </a:path>
              <a:path fill="lighten" w="16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>
            <a:off x="1066680" y="4419720"/>
            <a:ext cx="3962520" cy="380880"/>
          </a:xfrm>
          <a:custGeom>
            <a:avLst/>
            <a:gdLst>
              <a:gd name="textAreaLeft" fmla="*/ 24480 w 3962520"/>
              <a:gd name="textAreaRight" fmla="*/ 3938040 w 3962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24526" h="21600">
                <a:moveTo>
                  <a:pt x="0" y="0"/>
                </a:moveTo>
                <a:lnTo>
                  <a:pt x="224526" y="0"/>
                </a:lnTo>
                <a:lnTo>
                  <a:pt x="224526" y="21600"/>
                </a:lnTo>
                <a:lnTo>
                  <a:pt x="0" y="21600"/>
                </a:lnTo>
                <a:close/>
              </a:path>
              <a:path fill="lightenLess" w="224526" h="21600">
                <a:moveTo>
                  <a:pt x="0" y="0"/>
                </a:moveTo>
                <a:lnTo>
                  <a:pt x="224526" y="0"/>
                </a:lnTo>
                <a:lnTo>
                  <a:pt x="223126" y="1400"/>
                </a:lnTo>
                <a:lnTo>
                  <a:pt x="1400" y="1400"/>
                </a:lnTo>
                <a:close/>
              </a:path>
              <a:path fill="darken" w="224526" h="21600">
                <a:moveTo>
                  <a:pt x="224526" y="0"/>
                </a:moveTo>
                <a:lnTo>
                  <a:pt x="224526" y="21600"/>
                </a:lnTo>
                <a:lnTo>
                  <a:pt x="223126" y="20200"/>
                </a:lnTo>
                <a:lnTo>
                  <a:pt x="223126" y="1400"/>
                </a:lnTo>
                <a:close/>
              </a:path>
              <a:path fill="darkenLess" w="224526" h="21600">
                <a:moveTo>
                  <a:pt x="224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6" y="20200"/>
                </a:lnTo>
                <a:close/>
              </a:path>
              <a:path fill="lighten" w="224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3429000" y="13644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914400" y="2001960"/>
            <a:ext cx="692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914400" y="2840040"/>
            <a:ext cx="7345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ke a list of all the different types of cells that you can think of and the jobs they do. Then make a list of all the reasons that a cell needs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rite your answers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science jou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3429000" y="1364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892080" y="2198520"/>
            <a:ext cx="7489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914400" y="3036960"/>
            <a:ext cx="7338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hotosynthesis and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llular respiration with fer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"/>
          <p:cNvSpPr/>
          <p:nvPr/>
        </p:nvSpPr>
        <p:spPr>
          <a:xfrm>
            <a:off x="3429000" y="1364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914400" y="153360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om Sun to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14400" y="2278080"/>
            <a:ext cx="72788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process by which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lorophy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Plant cells have molecules that absorb light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hese molecules are called pigments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ophyll,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3429000" y="1364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914400" y="138924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om Sun to Cel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"/>
          <p:cNvPicPr/>
          <p:nvPr/>
        </p:nvPicPr>
        <p:blipFill>
          <a:blip r:embed="rId2"/>
          <a:stretch/>
        </p:blipFill>
        <p:spPr>
          <a:xfrm>
            <a:off x="1446120" y="2046240"/>
            <a:ext cx="6383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0"/>
          <p:cNvSpPr/>
          <p:nvPr/>
        </p:nvSpPr>
        <p:spPr>
          <a:xfrm>
            <a:off x="3429000" y="1364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905040" y="13129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tting Energy from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914400" y="1863720"/>
            <a:ext cx="7467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ellular Respi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During cellular respi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*, an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nergy is rele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7" descr="l4-17"/>
          <p:cNvPicPr/>
          <p:nvPr/>
        </p:nvPicPr>
        <p:blipFill>
          <a:blip r:embed="rId2"/>
          <a:stretch/>
        </p:blipFill>
        <p:spPr>
          <a:xfrm>
            <a:off x="1141560" y="3025800"/>
            <a:ext cx="663084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3429000" y="1364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905040" y="123660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tting Energy from Food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914400" y="1974960"/>
            <a:ext cx="73915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nection Between Photosynthesis and Respir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photo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ells take in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arbon dioxi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lease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uring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cellular respi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ells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use oxyg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reak down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release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carbon diox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cles can’t get the oxygen for cellular respiration, they use fermentation to get energy. Fermentation is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9"/>
          <p:cNvSpPr/>
          <p:nvPr/>
        </p:nvSpPr>
        <p:spPr>
          <a:xfrm>
            <a:off x="3429000" y="13644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l4-19"/>
          <p:cNvPicPr/>
          <p:nvPr/>
        </p:nvPicPr>
        <p:blipFill>
          <a:blip r:embed="rId1"/>
          <a:stretch/>
        </p:blipFill>
        <p:spPr>
          <a:xfrm>
            <a:off x="2362320" y="1555920"/>
            <a:ext cx="3787560" cy="4551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l4-19a"/>
          <p:cNvPicPr/>
          <p:nvPr/>
        </p:nvPicPr>
        <p:blipFill>
          <a:blip r:embed="rId2"/>
          <a:stretch/>
        </p:blipFill>
        <p:spPr>
          <a:xfrm>
            <a:off x="2438280" y="1042920"/>
            <a:ext cx="3230640" cy="5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335268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914400" y="187812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923760" y="2627280"/>
            <a:ext cx="76964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iology is the only science in which multiplication means the same thing as division—at least with regards to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lain what is meant by this statement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science jou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914400" y="184644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914400" y="2673360"/>
            <a:ext cx="7391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cells produce mor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rocess of mit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cell division differs in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914400" y="194328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Life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914400" y="2705040"/>
            <a:ext cx="7391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ell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gins when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 cell divides, it must make a copy of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which is organized into structures called *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8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05040" y="161784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14400" y="2354400"/>
            <a:ext cx="7467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of the following best describes a living c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 building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a living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a complex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) all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 paragraph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ce jou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fending your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914400" y="175248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Life of a Cel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914400" y="2476440"/>
            <a:ext cx="73915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king More Prokaryotic Ce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ll division in bacteria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a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single 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NA molecule (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chromoso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Binary fission results in two cells that each contain one copy of the circl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941400" y="146376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Life of a Cel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952560" y="2187720"/>
            <a:ext cx="7657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ukaryotic Cells and Their DN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romosomes of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ukaryotic cells contain more DNA than those of prokaryotic 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ukary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ll,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chromos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found in the nucleus an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are made of DNA and prote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mologous chrom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914400" y="132552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Life of a Cel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914400" y="2050920"/>
            <a:ext cx="7391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king More Eukaryotic C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cycle has three s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905040" y="146520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itosis and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1008000" y="2286000"/>
            <a:ext cx="75535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osis has four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5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1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1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1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1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14552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0"/>
          <p:cNvSpPr/>
          <p:nvPr/>
        </p:nvSpPr>
        <p:spPr>
          <a:xfrm>
            <a:off x="335268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905040" y="158904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itosis and the Cell Cyc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905040" y="2400480"/>
            <a:ext cx="7553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nimal cells and other eukaryotes that do not have cell walls, division of the cytoplasm begins at the cell membr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plant 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n other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ukaryotes with cell wa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92d050"/>
                </a:solidFill>
                <a:latin typeface="Arial"/>
              </a:rPr>
              <a:t>cell plat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 forms and the cell splits into two 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114552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9"/>
          <p:cNvSpPr/>
          <p:nvPr/>
        </p:nvSpPr>
        <p:spPr>
          <a:xfrm>
            <a:off x="3429000" y="13644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114552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4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521240" cy="50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9" descr=""/>
          <p:cNvPicPr/>
          <p:nvPr/>
        </p:nvPicPr>
        <p:blipFill>
          <a:blip r:embed="rId1"/>
          <a:stretch/>
        </p:blipFill>
        <p:spPr>
          <a:xfrm>
            <a:off x="8101080" y="550404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0"/>
          <p:cNvSpPr/>
          <p:nvPr/>
        </p:nvSpPr>
        <p:spPr>
          <a:xfrm>
            <a:off x="3429000" y="15552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Cell in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05040" y="14065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cept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905040" y="2093760"/>
            <a:ext cx="7705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he terms below to complete the concept map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1145520" y="2048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33480" y="3159000"/>
          <a:ext cx="7601040" cy="2895840"/>
        </p:xfrm>
        <a:graphic>
          <a:graphicData uri="http://schemas.openxmlformats.org/drawingml/2006/table">
            <a:tbl>
              <a:tblPr/>
              <a:tblGrid>
                <a:gridCol w="3801960"/>
                <a:gridCol w="3799080"/>
              </a:tblGrid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T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oto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su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ctic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roduc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pi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14400" y="17524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914400" y="2625840"/>
            <a:ext cx="76201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rocess of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osmosis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transport with 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large particles get into and out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914400" y="103680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at Is Diffu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914400" y="1752480"/>
            <a:ext cx="7431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ffu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movement of particles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ffusion of Wat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ffusion of water through cell membranes is call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"/>
          <p:cNvPicPr/>
          <p:nvPr/>
        </p:nvPicPr>
        <p:blipFill>
          <a:blip r:embed="rId2"/>
          <a:stretch/>
        </p:blipFill>
        <p:spPr>
          <a:xfrm>
            <a:off x="2565360" y="3733920"/>
            <a:ext cx="4487760" cy="23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14400" y="140184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at Is Diffusion?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914400" y="2111400"/>
            <a:ext cx="7431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ell and Osmo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mosis is important to cell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surrounds red blood cells and  is made up of water, salts, sugars, and other particles.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Osmosis keeps the concentration of these particles in bal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wilted plant is watered, osmosis makes the plant firm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914400" y="1700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oving Small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914400" y="2521080"/>
            <a:ext cx="75074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ssive Transpo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 of particles across a cell membrane without the use of energy by the cell is called pass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tive Transpo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cess of transporting particles that requires the cell to use energy is called active trans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9"/>
          <p:cNvSpPr/>
          <p:nvPr/>
        </p:nvSpPr>
        <p:spPr>
          <a:xfrm>
            <a:off x="3429000" y="0"/>
            <a:ext cx="41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1"/>
          <a:stretch/>
        </p:blipFill>
        <p:spPr>
          <a:xfrm>
            <a:off x="717480" y="1239840"/>
            <a:ext cx="784872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914400" y="144792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oving Larg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914400" y="2171880"/>
            <a:ext cx="7507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docyto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active-transport proce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which a cell * is calle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ndocyt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ocyto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in which a cell * that then moves to the cell surface an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fuses with the cell membra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xocyt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9"/>
          <p:cNvSpPr/>
          <p:nvPr/>
        </p:nvSpPr>
        <p:spPr>
          <a:xfrm>
            <a:off x="3429000" y="0"/>
            <a:ext cx="41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 with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"/>
          <p:cNvPicPr/>
          <p:nvPr/>
        </p:nvPicPr>
        <p:blipFill>
          <a:blip r:embed="rId1"/>
          <a:stretch/>
        </p:blipFill>
        <p:spPr>
          <a:xfrm>
            <a:off x="685800" y="1317600"/>
            <a:ext cx="79246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10-07T01:10:18Z</dcterms:modified>
  <cp:revision>429</cp:revision>
  <dc:subject/>
  <dc:title>No Slide Title</dc:title>
</cp:coreProperties>
</file>